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explode.wav" ContentType="audio/x-wav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67D-6B50-4D54-9B75-9A16C387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A4D-81E0-4AE5-BA04-6A26DC3D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77A-484D-4B03-BCA3-5D37798B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897-2435-4591-B27E-BE05980F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C09-70B3-417B-8556-A6CCF6A9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95FC-F9AA-46C2-B52B-911BBFF5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E1F2-DAD7-4EDA-8848-7846EC65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92D5-A9CD-48D0-ADBE-4E7B4CAE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C87D-9F60-42BE-A8A0-43870372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54A8-B246-4E06-8EF7-51F4EF67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874-90F8-4F58-916F-F529F903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8635-EE7F-4DB0-B067-1933FD7B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90EC-2694-4F32-A3B7-0327454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28B1-B0B8-475F-B89F-B88146B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DCB8-0540-4931-A200-3693E5D8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36C0-C7C2-4F91-A5E2-29774635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F94A-52A7-4B47-9BED-4FB02873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DC8A-FC85-4733-914D-4468C17D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9AB-69C2-4859-9432-A13A971E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73B-553D-4A5A-B8EB-44F4BD7C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A90-FEC0-4602-8E9C-8C11AEF2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800-AA3D-41E6-8103-E44D3FBA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376-685D-4B0E-8215-BF7E5CE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35D-24F9-459B-911E-7E5E51A2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760"/>
            <a:ext cx="82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3880" y="765000"/>
            <a:ext cx="84362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027640" y="6557760"/>
            <a:ext cx="10810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46400" y="6558120"/>
            <a:ext cx="46512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0" y="6557760"/>
            <a:ext cx="60480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5D7D-06D1-4396-8134-C30B35E67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86080" y="1844280"/>
            <a:ext cx="6102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5C50-0D94-4F71-B2B9-CDAD04828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47120" y="392040"/>
            <a:ext cx="558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ARTICLE PHYS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7280" y="113832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5640" y="392040"/>
            <a:ext cx="85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h 17 Probing Deep into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8520" y="1208160"/>
            <a:ext cx="61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7.1 Creation &amp; annihi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4920" y="18018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article – Antip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708000" y="47628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articles and anti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126828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Same mass, everything else is oppo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47640" y="2924280"/>
            <a:ext cx="7056720" cy="3602160"/>
            <a:chOff x="1547640" y="2924280"/>
            <a:chExt cx="7056720" cy="3602160"/>
          </a:xfrm>
        </p:grpSpPr>
        <p:sp>
          <p:nvSpPr>
            <p:cNvPr id="219" name=""/>
            <p:cNvSpPr/>
            <p:nvPr/>
          </p:nvSpPr>
          <p:spPr>
            <a:xfrm>
              <a:off x="4068360" y="3139920"/>
              <a:ext cx="167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65360" y="2997360"/>
              <a:ext cx="2437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Antielectron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(Positron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00560" y="423216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harge /C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0200" y="5945040"/>
              <a:ext cx="180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ass /k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2000" y="5089680"/>
              <a:ext cx="99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pi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50480" y="418464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-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06760" y="4184640"/>
              <a:ext cx="75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+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80280" y="5064120"/>
              <a:ext cx="77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½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83800" y="506412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½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70720" y="5945040"/>
              <a:ext cx="21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9.11 x 10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-3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0360" y="5945040"/>
              <a:ext cx="21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9.11 x 10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Arial"/>
                </a:rPr>
                <a:t>-3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47640" y="4094280"/>
              <a:ext cx="7056720" cy="243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8360" y="2924280"/>
              <a:ext cx="4896000" cy="117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08360" y="4094280"/>
              <a:ext cx="0" cy="24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6360" y="2924280"/>
              <a:ext cx="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47640" y="4903920"/>
              <a:ext cx="705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7640" y="5772240"/>
              <a:ext cx="705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6" name="" descr=""/>
          <p:cNvPicPr/>
          <p:nvPr/>
        </p:nvPicPr>
        <p:blipFill>
          <a:blip r:embed="rId1"/>
          <a:srcRect l="2750" t="2916" r="4628" b="16922"/>
          <a:stretch/>
        </p:blipFill>
        <p:spPr>
          <a:xfrm>
            <a:off x="108000" y="115920"/>
            <a:ext cx="2913120" cy="37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36360" y="1773360"/>
            <a:ext cx="542880" cy="581400"/>
            <a:chOff x="-36360" y="1773360"/>
            <a:chExt cx="542880" cy="581400"/>
          </a:xfrm>
        </p:grpSpPr>
        <p:sp>
          <p:nvSpPr>
            <p:cNvPr id="238" name=""/>
            <p:cNvSpPr/>
            <p:nvPr/>
          </p:nvSpPr>
          <p:spPr>
            <a:xfrm>
              <a:off x="-36360" y="18478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35280" y="1773360"/>
              <a:ext cx="5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-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534520" y="1735200"/>
            <a:ext cx="644040" cy="613800"/>
            <a:chOff x="8534520" y="1735200"/>
            <a:chExt cx="644040" cy="613800"/>
          </a:xfrm>
        </p:grpSpPr>
        <p:sp>
          <p:nvSpPr>
            <p:cNvPr id="241" name=""/>
            <p:cNvSpPr/>
            <p:nvPr/>
          </p:nvSpPr>
          <p:spPr>
            <a:xfrm>
              <a:off x="8604000" y="184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534520" y="17352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+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132000" y="1197000"/>
            <a:ext cx="2521080" cy="1800000"/>
            <a:chOff x="3132000" y="1197000"/>
            <a:chExt cx="2521080" cy="1800000"/>
          </a:xfrm>
        </p:grpSpPr>
        <p:sp>
          <p:nvSpPr>
            <p:cNvPr id="244" name=""/>
            <p:cNvSpPr/>
            <p:nvPr/>
          </p:nvSpPr>
          <p:spPr>
            <a:xfrm>
              <a:off x="3132000" y="1197000"/>
              <a:ext cx="2521080" cy="180000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1080" y="1484280"/>
              <a:ext cx="1800000" cy="1285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08360" y="1700280"/>
              <a:ext cx="1152360" cy="823680"/>
            </a:xfrm>
            <a:prstGeom prst="irregularSeal2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27640" y="1846440"/>
            <a:ext cx="1944360" cy="431640"/>
            <a:chOff x="4427640" y="1846440"/>
            <a:chExt cx="1944360" cy="431640"/>
          </a:xfrm>
        </p:grpSpPr>
        <p:sp>
          <p:nvSpPr>
            <p:cNvPr id="248" name=""/>
            <p:cNvSpPr/>
            <p:nvPr/>
          </p:nvSpPr>
          <p:spPr>
            <a:xfrm>
              <a:off x="4427640" y="1846440"/>
              <a:ext cx="1718280" cy="431640"/>
            </a:xfrm>
            <a:custGeom>
              <a:avLst/>
              <a:gdLst/>
              <a:ahLst/>
              <a:rect l="l" t="t" r="r" b="b"/>
              <a:pathLst>
                <a:path w="4354" h="605">
                  <a:moveTo>
                    <a:pt x="0" y="280"/>
                  </a:moveTo>
                  <a:cubicBezTo>
                    <a:pt x="90" y="140"/>
                    <a:pt x="181" y="0"/>
                    <a:pt x="272" y="8"/>
                  </a:cubicBezTo>
                  <a:cubicBezTo>
                    <a:pt x="363" y="16"/>
                    <a:pt x="454" y="227"/>
                    <a:pt x="544" y="325"/>
                  </a:cubicBezTo>
                  <a:cubicBezTo>
                    <a:pt x="634" y="423"/>
                    <a:pt x="725" y="605"/>
                    <a:pt x="816" y="597"/>
                  </a:cubicBezTo>
                  <a:cubicBezTo>
                    <a:pt x="907" y="589"/>
                    <a:pt x="998" y="378"/>
                    <a:pt x="1088" y="280"/>
                  </a:cubicBezTo>
                  <a:cubicBezTo>
                    <a:pt x="1178" y="182"/>
                    <a:pt x="1269" y="8"/>
                    <a:pt x="1360" y="8"/>
                  </a:cubicBezTo>
                  <a:cubicBezTo>
                    <a:pt x="1451" y="8"/>
                    <a:pt x="1542" y="182"/>
                    <a:pt x="1633" y="280"/>
                  </a:cubicBezTo>
                  <a:cubicBezTo>
                    <a:pt x="1724" y="378"/>
                    <a:pt x="1814" y="597"/>
                    <a:pt x="1905" y="597"/>
                  </a:cubicBezTo>
                  <a:cubicBezTo>
                    <a:pt x="1996" y="597"/>
                    <a:pt x="2087" y="378"/>
                    <a:pt x="2177" y="280"/>
                  </a:cubicBezTo>
                  <a:cubicBezTo>
                    <a:pt x="2267" y="182"/>
                    <a:pt x="2358" y="8"/>
                    <a:pt x="2449" y="8"/>
                  </a:cubicBezTo>
                  <a:cubicBezTo>
                    <a:pt x="2540" y="8"/>
                    <a:pt x="2631" y="182"/>
                    <a:pt x="2721" y="280"/>
                  </a:cubicBezTo>
                  <a:cubicBezTo>
                    <a:pt x="2811" y="378"/>
                    <a:pt x="2902" y="597"/>
                    <a:pt x="2993" y="597"/>
                  </a:cubicBezTo>
                  <a:cubicBezTo>
                    <a:pt x="3084" y="597"/>
                    <a:pt x="3175" y="378"/>
                    <a:pt x="3266" y="280"/>
                  </a:cubicBezTo>
                  <a:cubicBezTo>
                    <a:pt x="3357" y="182"/>
                    <a:pt x="3447" y="8"/>
                    <a:pt x="3538" y="8"/>
                  </a:cubicBezTo>
                  <a:cubicBezTo>
                    <a:pt x="3629" y="8"/>
                    <a:pt x="3720" y="182"/>
                    <a:pt x="3810" y="280"/>
                  </a:cubicBezTo>
                  <a:cubicBezTo>
                    <a:pt x="3900" y="378"/>
                    <a:pt x="3991" y="597"/>
                    <a:pt x="4082" y="597"/>
                  </a:cubicBezTo>
                  <a:cubicBezTo>
                    <a:pt x="4173" y="597"/>
                    <a:pt x="4293" y="378"/>
                    <a:pt x="4354" y="280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45920" y="2062080"/>
              <a:ext cx="226080" cy="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68720" y="1773000"/>
            <a:ext cx="1944360" cy="431640"/>
            <a:chOff x="2268720" y="1773000"/>
            <a:chExt cx="1944360" cy="431640"/>
          </a:xfrm>
        </p:grpSpPr>
        <p:sp>
          <p:nvSpPr>
            <p:cNvPr id="251" name=""/>
            <p:cNvSpPr/>
            <p:nvPr/>
          </p:nvSpPr>
          <p:spPr>
            <a:xfrm rot="10800000">
              <a:off x="2494800" y="1773000"/>
              <a:ext cx="1718280" cy="431640"/>
            </a:xfrm>
            <a:custGeom>
              <a:avLst/>
              <a:gdLst/>
              <a:ahLst/>
              <a:rect l="l" t="t" r="r" b="b"/>
              <a:pathLst>
                <a:path w="4354" h="605">
                  <a:moveTo>
                    <a:pt x="0" y="280"/>
                  </a:moveTo>
                  <a:cubicBezTo>
                    <a:pt x="90" y="140"/>
                    <a:pt x="181" y="0"/>
                    <a:pt x="272" y="8"/>
                  </a:cubicBezTo>
                  <a:cubicBezTo>
                    <a:pt x="363" y="16"/>
                    <a:pt x="454" y="227"/>
                    <a:pt x="544" y="325"/>
                  </a:cubicBezTo>
                  <a:cubicBezTo>
                    <a:pt x="634" y="423"/>
                    <a:pt x="725" y="605"/>
                    <a:pt x="816" y="597"/>
                  </a:cubicBezTo>
                  <a:cubicBezTo>
                    <a:pt x="907" y="589"/>
                    <a:pt x="998" y="378"/>
                    <a:pt x="1088" y="280"/>
                  </a:cubicBezTo>
                  <a:cubicBezTo>
                    <a:pt x="1178" y="182"/>
                    <a:pt x="1269" y="8"/>
                    <a:pt x="1360" y="8"/>
                  </a:cubicBezTo>
                  <a:cubicBezTo>
                    <a:pt x="1451" y="8"/>
                    <a:pt x="1542" y="182"/>
                    <a:pt x="1633" y="280"/>
                  </a:cubicBezTo>
                  <a:cubicBezTo>
                    <a:pt x="1724" y="378"/>
                    <a:pt x="1814" y="597"/>
                    <a:pt x="1905" y="597"/>
                  </a:cubicBezTo>
                  <a:cubicBezTo>
                    <a:pt x="1996" y="597"/>
                    <a:pt x="2087" y="378"/>
                    <a:pt x="2177" y="280"/>
                  </a:cubicBezTo>
                  <a:cubicBezTo>
                    <a:pt x="2267" y="182"/>
                    <a:pt x="2358" y="8"/>
                    <a:pt x="2449" y="8"/>
                  </a:cubicBezTo>
                  <a:cubicBezTo>
                    <a:pt x="2540" y="8"/>
                    <a:pt x="2631" y="182"/>
                    <a:pt x="2721" y="280"/>
                  </a:cubicBezTo>
                  <a:cubicBezTo>
                    <a:pt x="2811" y="378"/>
                    <a:pt x="2902" y="597"/>
                    <a:pt x="2993" y="597"/>
                  </a:cubicBezTo>
                  <a:cubicBezTo>
                    <a:pt x="3084" y="597"/>
                    <a:pt x="3175" y="378"/>
                    <a:pt x="3266" y="280"/>
                  </a:cubicBezTo>
                  <a:cubicBezTo>
                    <a:pt x="3357" y="182"/>
                    <a:pt x="3447" y="8"/>
                    <a:pt x="3538" y="8"/>
                  </a:cubicBezTo>
                  <a:cubicBezTo>
                    <a:pt x="3629" y="8"/>
                    <a:pt x="3720" y="182"/>
                    <a:pt x="3810" y="280"/>
                  </a:cubicBezTo>
                  <a:cubicBezTo>
                    <a:pt x="3900" y="378"/>
                    <a:pt x="3991" y="597"/>
                    <a:pt x="4082" y="597"/>
                  </a:cubicBezTo>
                  <a:cubicBezTo>
                    <a:pt x="4173" y="597"/>
                    <a:pt x="4293" y="378"/>
                    <a:pt x="4354" y="280"/>
                  </a:cubicBezTo>
                </a:path>
              </a:pathLst>
            </a:custGeom>
            <a:noFill/>
            <a:ln w="381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268720" y="1989000"/>
              <a:ext cx="226080" cy="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900000" y="30830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destroyed and turned into energy (&amp; vice ver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680" y="4076640"/>
            <a:ext cx="9034920" cy="1157760"/>
            <a:chOff x="76680" y="4076640"/>
            <a:chExt cx="9034920" cy="1157760"/>
          </a:xfrm>
        </p:grpSpPr>
        <p:sp>
          <p:nvSpPr>
            <p:cNvPr id="255" name=""/>
            <p:cNvSpPr/>
            <p:nvPr/>
          </p:nvSpPr>
          <p:spPr>
            <a:xfrm>
              <a:off x="79560" y="4076640"/>
              <a:ext cx="363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ll collisions must: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680" y="4653000"/>
              <a:ext cx="90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Conserve energy, linear momentum and char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3480" y="5373720"/>
            <a:ext cx="70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Conserve lepton and baryon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96360" y="5805360"/>
            <a:ext cx="3204360" cy="797400"/>
            <a:chOff x="5796360" y="5805360"/>
            <a:chExt cx="3204360" cy="797400"/>
          </a:xfrm>
        </p:grpSpPr>
        <p:sp>
          <p:nvSpPr>
            <p:cNvPr id="259" name=""/>
            <p:cNvSpPr/>
            <p:nvPr/>
          </p:nvSpPr>
          <p:spPr>
            <a:xfrm>
              <a:off x="5796360" y="6021360"/>
              <a:ext cx="320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cc"/>
                  </a:solidFill>
                  <a:latin typeface="Arial"/>
                </a:rPr>
                <a:t>More of this late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93080" y="5805360"/>
              <a:ext cx="574560" cy="155880"/>
            </a:xfrm>
            <a:custGeom>
              <a:avLst/>
              <a:gdLst/>
              <a:ahLst/>
              <a:rect l="l" t="t" r="r" b="b"/>
              <a:pathLst>
                <a:path w="362" h="98">
                  <a:moveTo>
                    <a:pt x="362" y="98"/>
                  </a:moveTo>
                  <a:cubicBezTo>
                    <a:pt x="324" y="49"/>
                    <a:pt x="287" y="0"/>
                    <a:pt x="0" y="8"/>
                  </a:cubicBezTo>
                </a:path>
              </a:pathLst>
            </a:custGeom>
            <a:noFill/>
            <a:ln w="57240">
              <a:solidFill>
                <a:srgbClr val="cc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0920" y="189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nihilation &amp;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4880" y="63972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ppens if particle-antiparticles m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0.44687 -5.20231E-007 E">
                                      <p:cBhvr>
                                        <p:cTn id="11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20231E-007 L -0.50191 -5.20231E-007 E">
                                      <p:cBhvr>
                                        <p:cTn id="113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094120" y="930240"/>
            <a:ext cx="20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5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+ e</a:t>
            </a:r>
            <a:r>
              <a:rPr b="0" lang="en-US" sz="5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97320" y="14349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51240" y="952560"/>
            <a:ext cx="144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61560" y="3476520"/>
            <a:ext cx="74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gamma ray (photon) (no char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08720" y="2341440"/>
            <a:ext cx="27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= elec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= posi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3120" y="472428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ss converted into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7640" y="26028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Example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535680" y="977760"/>
            <a:ext cx="6685200" cy="1575720"/>
            <a:chOff x="535680" y="977760"/>
            <a:chExt cx="6685200" cy="1575720"/>
          </a:xfrm>
        </p:grpSpPr>
        <p:sp>
          <p:nvSpPr>
            <p:cNvPr id="271" name=""/>
            <p:cNvSpPr/>
            <p:nvPr/>
          </p:nvSpPr>
          <p:spPr>
            <a:xfrm>
              <a:off x="535680" y="977760"/>
              <a:ext cx="668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In theory…(but very rarely happens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23000" y="1636560"/>
              <a:ext cx="208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lang="en-US" sz="5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 + e</a:t>
              </a:r>
              <a:r>
                <a:rPr b="0" lang="en-US" sz="54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02200" y="2093760"/>
              <a:ext cx="72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06320" y="1712880"/>
              <a:ext cx="144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"/>
                </a:rPr>
                <a:t>+ </a:t>
              </a: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977480" y="284940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ergy converted in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4920" y="3703680"/>
            <a:ext cx="8137440" cy="3094560"/>
            <a:chOff x="394920" y="3703680"/>
            <a:chExt cx="8137440" cy="3094560"/>
          </a:xfrm>
        </p:grpSpPr>
        <p:sp>
          <p:nvSpPr>
            <p:cNvPr id="277" name=""/>
            <p:cNvSpPr/>
            <p:nvPr/>
          </p:nvSpPr>
          <p:spPr>
            <a:xfrm>
              <a:off x="394920" y="3703680"/>
              <a:ext cx="347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ore commonly…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19800" y="4649760"/>
              <a:ext cx="208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lang="en-US" sz="5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n-US" sz="5400" spc="-1" strike="noStrike">
                  <a:solidFill>
                    <a:srgbClr val="ff0000"/>
                  </a:solidFill>
                  <a:latin typeface="Arial"/>
                </a:rPr>
                <a:t> + e</a:t>
              </a:r>
              <a:r>
                <a:rPr b="0" lang="en-US" sz="54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98080" y="5106960"/>
              <a:ext cx="539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51160" y="4627800"/>
              <a:ext cx="49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48960" y="5729400"/>
              <a:ext cx="7583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Photon interacts with a nearby nucleus producing mas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07640" y="26028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Example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50920" y="856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ergy of a photon must be sufficient to create the mass of a particle &amp; an antipar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7480" y="1052640"/>
            <a:ext cx="2658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4400" spc="-1" strike="noStrike" baseline="-25000">
                <a:solidFill>
                  <a:srgbClr val="ff0000"/>
                </a:solidFill>
                <a:latin typeface="Arial"/>
              </a:rPr>
              <a:t>rest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= mc</a:t>
            </a:r>
            <a:r>
              <a:rPr b="0" lang="en-GB" sz="4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357336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if mass is to be created, photon energy must = 2m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t lea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49440" y="2637000"/>
            <a:ext cx="15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ff"/>
                </a:solidFill>
                <a:latin typeface="Arial"/>
              </a:rPr>
              <a:t>E = h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8320" y="216864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Provided by pho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66320" y="21686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Electron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 rot="5400000">
            <a:off x="3475800" y="1448640"/>
            <a:ext cx="216000" cy="1008000"/>
          </a:xfrm>
          <a:custGeom>
            <a:avLst/>
            <a:gdLst>
              <a:gd name="textAreaLeft" fmla="*/ 0 w 216000"/>
              <a:gd name="textAreaRight" fmla="*/ 7812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 rot="5400000">
            <a:off x="5060160" y="1448640"/>
            <a:ext cx="216000" cy="1008000"/>
          </a:xfrm>
          <a:custGeom>
            <a:avLst/>
            <a:gdLst>
              <a:gd name="textAreaLeft" fmla="*/ 0 w 216000"/>
              <a:gd name="textAreaRight" fmla="*/ 7812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464840" y="4581360"/>
            <a:ext cx="7681680" cy="797400"/>
            <a:chOff x="1464840" y="4581360"/>
            <a:chExt cx="7681680" cy="797400"/>
          </a:xfrm>
        </p:grpSpPr>
        <p:sp>
          <p:nvSpPr>
            <p:cNvPr id="292" name=""/>
            <p:cNvSpPr/>
            <p:nvPr/>
          </p:nvSpPr>
          <p:spPr>
            <a:xfrm>
              <a:off x="1464840" y="4797360"/>
              <a:ext cx="76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cc33"/>
                  </a:solidFill>
                  <a:latin typeface="Arial"/>
                </a:rPr>
                <a:t>1 photon producing electron-positron pair</a:t>
              </a:r>
              <a:r>
                <a:rPr b="0" lang="en-US" sz="2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68360" y="4581360"/>
              <a:ext cx="287640" cy="3603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79280" y="5589720"/>
            <a:ext cx="88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lso works the other way around – knowing the mass of the particle-antiparticle pair that annihilate you calculate the energy of the photons produ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52760" y="1974960"/>
            <a:ext cx="64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b8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decay occurs due to weak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2990880"/>
            <a:ext cx="815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b8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b8"/>
                </a:solidFill>
                <a:latin typeface="Arial"/>
              </a:rPr>
              <a:t>Random radioactive decay event due to exchange of Z</a:t>
            </a:r>
            <a:r>
              <a:rPr b="0" lang="en-GB" sz="3200" spc="-1" strike="noStrike" baseline="30000">
                <a:solidFill>
                  <a:srgbClr val="0000b8"/>
                </a:solidFill>
                <a:latin typeface="Arial"/>
              </a:rPr>
              <a:t>0</a:t>
            </a:r>
            <a:r>
              <a:rPr b="0" lang="en-GB" sz="3200" spc="-1" strike="noStrike">
                <a:solidFill>
                  <a:srgbClr val="0000b8"/>
                </a:solidFill>
                <a:latin typeface="Arial"/>
              </a:rPr>
              <a:t> or W</a:t>
            </a:r>
            <a:r>
              <a:rPr b="0" lang="en-US" sz="3200" spc="-1" strike="noStrike" baseline="30000">
                <a:solidFill>
                  <a:srgbClr val="0000b8"/>
                </a:solidFill>
                <a:latin typeface="Arial"/>
                <a:ea typeface="Arial"/>
              </a:rPr>
              <a:t>±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  <a:ea typeface="Arial"/>
              </a:rPr>
              <a:t> bo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3560" y="4495680"/>
            <a:ext cx="72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Nuclei with excess n undergo </a:t>
            </a:r>
            <a:r>
              <a:rPr b="0" lang="en-US" sz="3200" spc="-1" strike="noStrike">
                <a:solidFill>
                  <a:srgbClr val="0000b8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0000b8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7160" y="5513400"/>
            <a:ext cx="73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Nuclei with excess p undergo </a:t>
            </a:r>
            <a:r>
              <a:rPr b="0" lang="en-US" sz="3200" spc="-1" strike="noStrike">
                <a:solidFill>
                  <a:srgbClr val="0000b8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0000b8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640" y="105264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6520" y="189000"/>
            <a:ext cx="72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oretical requirement for electron neutr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95640" y="18900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3800" y="1125360"/>
            <a:ext cx="79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nucleus a neutron turns into a pro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57640" y="119160"/>
            <a:ext cx="79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cc00cc"/>
                </a:solidFill>
                <a:latin typeface="Arial"/>
                <a:ea typeface="Arial"/>
              </a:rPr>
              <a:t>β</a:t>
            </a:r>
            <a:r>
              <a:rPr b="1" lang="en-GB" sz="6000" spc="-1" strike="noStrike" baseline="30000">
                <a:solidFill>
                  <a:srgbClr val="cc00cc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51280" y="2098800"/>
            <a:ext cx="2881440" cy="2308320"/>
            <a:chOff x="3851280" y="2098800"/>
            <a:chExt cx="2881440" cy="2308320"/>
          </a:xfrm>
        </p:grpSpPr>
        <p:sp>
          <p:nvSpPr>
            <p:cNvPr id="305" name=""/>
            <p:cNvSpPr/>
            <p:nvPr/>
          </p:nvSpPr>
          <p:spPr>
            <a:xfrm>
              <a:off x="5219640" y="2098800"/>
              <a:ext cx="1513080" cy="1512720"/>
            </a:xfrm>
            <a:prstGeom prst="ellipse">
              <a:avLst/>
            </a:prstGeom>
            <a:solidFill>
              <a:srgbClr val="0000ff">
                <a:alpha val="2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24720" y="30351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83280" y="2458800"/>
              <a:ext cx="432000" cy="431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4360" y="2530440"/>
              <a:ext cx="431640" cy="43128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51280" y="2817720"/>
              <a:ext cx="1081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80000" y="382572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uu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122560" y="2098800"/>
            <a:ext cx="1512720" cy="2309760"/>
            <a:chOff x="2122560" y="2098800"/>
            <a:chExt cx="1512720" cy="2309760"/>
          </a:xfrm>
        </p:grpSpPr>
        <p:sp>
          <p:nvSpPr>
            <p:cNvPr id="312" name=""/>
            <p:cNvSpPr/>
            <p:nvPr/>
          </p:nvSpPr>
          <p:spPr>
            <a:xfrm>
              <a:off x="2122560" y="2098800"/>
              <a:ext cx="1512720" cy="1512360"/>
            </a:xfrm>
            <a:prstGeom prst="ellipse">
              <a:avLst/>
            </a:prstGeom>
            <a:solidFill>
              <a:srgbClr val="cc00cc">
                <a:alpha val="2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7280" y="3035160"/>
              <a:ext cx="432000" cy="43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86200" y="2458800"/>
              <a:ext cx="431640" cy="43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66920" y="2530080"/>
              <a:ext cx="432000" cy="43164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84360" y="382716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udd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306880" y="4653000"/>
            <a:ext cx="44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own quark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up qu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42040" y="5300640"/>
            <a:ext cx="74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Change in quark charge -</a:t>
            </a:r>
            <a:r>
              <a:rPr b="0" lang="en-US" sz="3200" spc="-1" strike="noStrike">
                <a:solidFill>
                  <a:srgbClr val="0000b8"/>
                </a:solidFill>
                <a:latin typeface=""/>
              </a:rPr>
              <a:t>⅓ e → 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  <a:ea typeface="Arial"/>
              </a:rPr>
              <a:t>⅔ e = e</a:t>
            </a:r>
            <a:r>
              <a:rPr b="0" lang="en-US" sz="3200" spc="-1" strike="noStrike" baseline="30000">
                <a:solidFill>
                  <a:srgbClr val="0000b8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28160" y="5950080"/>
            <a:ext cx="70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must be emitted to conser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692280"/>
            <a:ext cx="3671640" cy="5545080"/>
          </a:xfrm>
          <a:custGeom>
            <a:avLst/>
            <a:gdLst/>
            <a:ahLst/>
            <a:rect l="l" t="t" r="r" b="b"/>
            <a:pathLst>
              <a:path w="2313" h="3493">
                <a:moveTo>
                  <a:pt x="1950" y="3493"/>
                </a:moveTo>
                <a:lnTo>
                  <a:pt x="2313" y="3493"/>
                </a:lnTo>
                <a:lnTo>
                  <a:pt x="2313" y="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710080" y="9637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05160" y="166356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65720" y="9637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62400" y="963720"/>
            <a:ext cx="199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   e</a:t>
            </a:r>
            <a:r>
              <a:rPr b="0" lang="en-US" sz="66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92360" y="2433600"/>
            <a:ext cx="604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 must also conser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bary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b8"/>
                </a:solidFill>
                <a:latin typeface="Arial"/>
              </a:rPr>
              <a:t>lept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60360" y="40766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39280" y="407664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n &amp; p have baryon numb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45760" y="5300640"/>
            <a:ext cx="46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b8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 has lepton numb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12720" y="105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12720" y="1579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41800" y="10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41800" y="1579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16400" y="10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13080" y="15796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5640" y="18900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38920" y="4662360"/>
            <a:ext cx="5790600" cy="581400"/>
            <a:chOff x="2338920" y="4662360"/>
            <a:chExt cx="5790600" cy="581400"/>
          </a:xfrm>
        </p:grpSpPr>
        <p:sp>
          <p:nvSpPr>
            <p:cNvPr id="337" name=""/>
            <p:cNvSpPr/>
            <p:nvPr/>
          </p:nvSpPr>
          <p:spPr>
            <a:xfrm>
              <a:off x="2338920" y="4662360"/>
              <a:ext cx="579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900"/>
                  </a:solidFill>
                  <a:latin typeface="Arial"/>
                </a:rPr>
                <a:t>n &amp; p have baryon number = -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13080" y="4765680"/>
              <a:ext cx="2872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32000" y="4767120"/>
              <a:ext cx="2876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358360" y="5877000"/>
            <a:ext cx="5708520" cy="581400"/>
            <a:chOff x="2358360" y="5877000"/>
            <a:chExt cx="5708520" cy="581400"/>
          </a:xfrm>
        </p:grpSpPr>
        <p:sp>
          <p:nvSpPr>
            <p:cNvPr id="341" name=""/>
            <p:cNvSpPr/>
            <p:nvPr/>
          </p:nvSpPr>
          <p:spPr>
            <a:xfrm>
              <a:off x="2358360" y="5877000"/>
              <a:ext cx="570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e</a:t>
              </a:r>
              <a:r>
                <a:rPr b="0" lang="en-US" sz="3200" spc="-1" strike="noStrike" baseline="30000">
                  <a:solidFill>
                    <a:srgbClr val="0000b8"/>
                  </a:solidFill>
                  <a:latin typeface="Arial"/>
                </a:rPr>
                <a:t>+</a:t>
              </a: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 ( e</a:t>
              </a:r>
              <a:r>
                <a:rPr b="0" lang="en-US" sz="3200" spc="-1" strike="noStrike" baseline="30000">
                  <a:solidFill>
                    <a:srgbClr val="0000b8"/>
                  </a:solidFill>
                  <a:latin typeface="Arial"/>
                </a:rPr>
                <a:t>- </a:t>
              </a: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) has lepton number = -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5080" y="6021360"/>
              <a:ext cx="287280" cy="0"/>
            </a:xfrm>
            <a:prstGeom prst="line">
              <a:avLst/>
            </a:prstGeom>
            <a:ln w="38160">
              <a:solidFill>
                <a:srgbClr val="0000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81720" y="3429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051720" y="3321000"/>
            <a:ext cx="3358080" cy="703440"/>
            <a:chOff x="3051720" y="3321000"/>
            <a:chExt cx="3358080" cy="703440"/>
          </a:xfrm>
        </p:grpSpPr>
        <p:sp>
          <p:nvSpPr>
            <p:cNvPr id="345" name=""/>
            <p:cNvSpPr/>
            <p:nvPr/>
          </p:nvSpPr>
          <p:spPr>
            <a:xfrm>
              <a:off x="3051720" y="3321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45000" y="3717720"/>
              <a:ext cx="576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91720" y="3321000"/>
              <a:ext cx="191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1  +   -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981720" y="456408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Bar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051360" y="4456080"/>
            <a:ext cx="3330000" cy="703440"/>
            <a:chOff x="3051360" y="4456080"/>
            <a:chExt cx="3330000" cy="703440"/>
          </a:xfrm>
        </p:grpSpPr>
        <p:sp>
          <p:nvSpPr>
            <p:cNvPr id="350" name=""/>
            <p:cNvSpPr/>
            <p:nvPr/>
          </p:nvSpPr>
          <p:spPr>
            <a:xfrm>
              <a:off x="3051360" y="44560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44640" y="4852800"/>
              <a:ext cx="57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90640" y="4456080"/>
              <a:ext cx="18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00"/>
                  </a:solidFill>
                  <a:latin typeface="Arial"/>
                </a:rPr>
                <a:t>1  +    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982440" y="564372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8"/>
                </a:solidFill>
                <a:latin typeface="Arial"/>
              </a:rPr>
              <a:t>Lep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051360" y="5535720"/>
            <a:ext cx="3330000" cy="703440"/>
            <a:chOff x="3051360" y="5535720"/>
            <a:chExt cx="3330000" cy="703440"/>
          </a:xfrm>
        </p:grpSpPr>
        <p:sp>
          <p:nvSpPr>
            <p:cNvPr id="355" name=""/>
            <p:cNvSpPr/>
            <p:nvPr/>
          </p:nvSpPr>
          <p:spPr>
            <a:xfrm>
              <a:off x="3051360" y="55357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b8"/>
                  </a:solidFill>
                  <a:latin typeface="Arial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5932440"/>
              <a:ext cx="57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90640" y="5535720"/>
              <a:ext cx="18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b8"/>
                  </a:solidFill>
                  <a:latin typeface="Arial"/>
                </a:rPr>
                <a:t>0  +   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671520" y="551808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b8"/>
                </a:solidFill>
                <a:latin typeface="Arial"/>
              </a:rPr>
              <a:t>+  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659640" y="2133360"/>
            <a:ext cx="2484360" cy="1356480"/>
            <a:chOff x="6659640" y="2133360"/>
            <a:chExt cx="2484360" cy="1356480"/>
          </a:xfrm>
        </p:grpSpPr>
        <p:sp>
          <p:nvSpPr>
            <p:cNvPr id="360" name=""/>
            <p:cNvSpPr/>
            <p:nvPr/>
          </p:nvSpPr>
          <p:spPr>
            <a:xfrm>
              <a:off x="6659640" y="2421000"/>
              <a:ext cx="2484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ff"/>
                  </a:solidFill>
                  <a:latin typeface="Arial"/>
                </a:rPr>
                <a:t>anti electron neutrin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380360" y="2133360"/>
              <a:ext cx="287280" cy="360360"/>
            </a:xfrm>
            <a:prstGeom prst="line">
              <a:avLst/>
            </a:prstGeom>
            <a:ln w="572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819760" y="961920"/>
            <a:ext cx="1888920" cy="1238400"/>
            <a:chOff x="5819760" y="961920"/>
            <a:chExt cx="1888920" cy="1238400"/>
          </a:xfrm>
        </p:grpSpPr>
        <p:sp>
          <p:nvSpPr>
            <p:cNvPr id="363" name=""/>
            <p:cNvSpPr/>
            <p:nvPr/>
          </p:nvSpPr>
          <p:spPr>
            <a:xfrm>
              <a:off x="5819760" y="961920"/>
              <a:ext cx="188892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b8"/>
                  </a:solidFill>
                  <a:latin typeface="Arial"/>
                </a:rPr>
                <a:t>+  </a:t>
              </a:r>
              <a:r>
                <a:rPr b="0" lang="en-US" sz="6600" spc="-1" strike="noStrike">
                  <a:solidFill>
                    <a:srgbClr val="0000b8"/>
                  </a:solidFill>
                  <a:latin typeface="Symbol"/>
                  <a:ea typeface="Symbol"/>
                </a:rPr>
                <a:t></a:t>
              </a:r>
              <a:r>
                <a:rPr b="0" lang="en-US" sz="6600" spc="-1" strike="noStrike" baseline="-25000">
                  <a:solidFill>
                    <a:srgbClr val="0000b8"/>
                  </a:solidFill>
                  <a:latin typeface="Arial"/>
                </a:rPr>
                <a:t>e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48360" y="1197000"/>
              <a:ext cx="360360" cy="0"/>
            </a:xfrm>
            <a:prstGeom prst="line">
              <a:avLst/>
            </a:prstGeom>
            <a:ln w="57240">
              <a:solidFill>
                <a:srgbClr val="0000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540480" y="1049400"/>
            <a:ext cx="406440" cy="1100520"/>
            <a:chOff x="6540480" y="1049400"/>
            <a:chExt cx="406440" cy="1100520"/>
          </a:xfrm>
        </p:grpSpPr>
        <p:sp>
          <p:nvSpPr>
            <p:cNvPr id="366" name=""/>
            <p:cNvSpPr/>
            <p:nvPr/>
          </p:nvSpPr>
          <p:spPr>
            <a:xfrm>
              <a:off x="6540480" y="15685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40480" y="1049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b8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95640" y="18900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70080" y="9619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65160" y="166356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26080" y="9619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22400" y="961920"/>
            <a:ext cx="199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   e</a:t>
            </a:r>
            <a:r>
              <a:rPr b="0" lang="en-US" sz="66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73080" y="104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73080" y="156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01800" y="104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01800" y="156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76760" y="104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3440" y="15685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22120" y="6237360"/>
            <a:ext cx="68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blem – doesn’t balance so create new par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0040" y="1803240"/>
            <a:ext cx="77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Alpha Scattering &amp; Electron Diff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50920" y="1409760"/>
            <a:ext cx="83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out the decay of a proton into a neu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640" y="18900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017240" y="119160"/>
            <a:ext cx="90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cc00cc"/>
                </a:solidFill>
                <a:latin typeface="Arial"/>
                <a:ea typeface="Arial"/>
              </a:rPr>
              <a:t>β</a:t>
            </a:r>
            <a:r>
              <a:rPr b="1" lang="en-GB" sz="6000" spc="-1" strike="noStrike" baseline="30000">
                <a:solidFill>
                  <a:srgbClr val="cc00cc"/>
                </a:solidFill>
                <a:latin typeface="Arial"/>
                <a:ea typeface="Arial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35760" y="2708280"/>
            <a:ext cx="1888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  </a:t>
            </a:r>
            <a:r>
              <a:rPr b="0" lang="en-US" sz="6600" spc="-1" strike="noStrike">
                <a:solidFill>
                  <a:srgbClr val="ff0000"/>
                </a:solidFill>
                <a:latin typeface="Symbol"/>
                <a:ea typeface="Symbol"/>
              </a:rPr>
              <a:t></a:t>
            </a:r>
            <a:r>
              <a:rPr b="0" lang="en-US" sz="66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756120" y="2795760"/>
            <a:ext cx="406440" cy="1100520"/>
            <a:chOff x="6756120" y="2795760"/>
            <a:chExt cx="406440" cy="1100520"/>
          </a:xfrm>
        </p:grpSpPr>
        <p:sp>
          <p:nvSpPr>
            <p:cNvPr id="385" name=""/>
            <p:cNvSpPr/>
            <p:nvPr/>
          </p:nvSpPr>
          <p:spPr>
            <a:xfrm>
              <a:off x="6756120" y="33148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56120" y="2795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486080" y="27082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81160" y="340992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41720" y="27082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48120" y="2708280"/>
            <a:ext cx="21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   e</a:t>
            </a:r>
            <a:r>
              <a:rPr b="0" lang="en-US" sz="6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88720" y="2795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88720" y="3314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17800" y="2795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17800" y="3314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92400" y="2795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84480" y="3314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32360" y="692280"/>
            <a:ext cx="3816360" cy="3816360"/>
          </a:xfrm>
          <a:custGeom>
            <a:avLst/>
            <a:gdLst/>
            <a:ahLst/>
            <a:rect l="l" t="t" r="r" b="b"/>
            <a:pathLst>
              <a:path w="2404" h="2404">
                <a:moveTo>
                  <a:pt x="317" y="2087"/>
                </a:moveTo>
                <a:lnTo>
                  <a:pt x="317" y="2404"/>
                </a:lnTo>
                <a:lnTo>
                  <a:pt x="2404" y="2404"/>
                </a:lnTo>
                <a:lnTo>
                  <a:pt x="2404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72360" y="50846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electron neutr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307280" y="4005360"/>
            <a:ext cx="1440" cy="10792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5120" y="1049400"/>
            <a:ext cx="89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reason why neutrino’s needed to exi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06400" y="3112920"/>
            <a:ext cx="786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rimentally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particle energy varied – problem as decay releases fixed am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24000" y="1989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on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5640" y="18900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Arial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5320" y="4653000"/>
            <a:ext cx="66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ti) neutrino has energy left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080" y="549360"/>
            <a:ext cx="46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uli Exclusion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628640"/>
            <a:ext cx="56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thin an atom, two identical particles cannot be in the same quantum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9280" y="365436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es only to Ferm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e. hadrons and lep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5315040"/>
            <a:ext cx="88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plains why objects are solid, periodic table and electron sh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70160" y="5493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6920" y="1341360"/>
            <a:ext cx="83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A quantum number that comes in lumps of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½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350028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</a:rPr>
              <a:t>The closest to identical, </a:t>
            </a:r>
            <a:r>
              <a:rPr b="0" i="1" lang="en-US" sz="3200" spc="-1" strike="noStrike" u="sng">
                <a:solidFill>
                  <a:srgbClr val="d60093"/>
                </a:solidFill>
                <a:uFillTx/>
                <a:latin typeface="Arial"/>
              </a:rPr>
              <a:t>two</a:t>
            </a:r>
            <a:r>
              <a:rPr b="0" i="1" lang="en-US" sz="3200" spc="-1" strike="noStrike">
                <a:solidFill>
                  <a:srgbClr val="d60093"/>
                </a:solidFill>
                <a:latin typeface="Arial"/>
              </a:rPr>
              <a:t> particles can be is to have all the same quantum numbers but opposite s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3120" y="2700360"/>
            <a:ext cx="32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aware of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79280" y="333360"/>
            <a:ext cx="51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an alpha particl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79480" y="1989000"/>
            <a:ext cx="6476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63640" y="2421000"/>
            <a:ext cx="64764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84560" y="2421000"/>
            <a:ext cx="64764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11480" y="2060640"/>
            <a:ext cx="64764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220500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rotons, 2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6064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protons/neutrons have identical quantum states but opposite sp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68400" y="5445000"/>
            <a:ext cx="70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akes alpha particles very 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1160"/>
            <a:ext cx="7632720" cy="5218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5445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gle of deflection is determined by the K.E. of the alpha particle. The “no – go “ zone behind the nucleus gets smaller the larger the K.E. of the alpha p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640" y="11592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Electron diff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62160" y="1484280"/>
            <a:ext cx="2914560" cy="1393920"/>
            <a:chOff x="1262160" y="1484280"/>
            <a:chExt cx="2914560" cy="1393920"/>
          </a:xfrm>
        </p:grpSpPr>
        <p:sp>
          <p:nvSpPr>
            <p:cNvPr id="128" name=""/>
            <p:cNvSpPr/>
            <p:nvPr/>
          </p:nvSpPr>
          <p:spPr>
            <a:xfrm>
              <a:off x="1262160" y="1484280"/>
              <a:ext cx="291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sin </a:t>
              </a:r>
              <a:r>
                <a:rPr b="0" lang="en-GB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 =1.22</a:t>
              </a:r>
              <a:r>
                <a:rPr b="0" lang="el-GR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96160" y="21747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35440" y="217476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rcRect l="11071" t="34403" r="12088" b="34156"/>
          <a:stretch/>
        </p:blipFill>
        <p:spPr>
          <a:xfrm>
            <a:off x="6119640" y="4221000"/>
            <a:ext cx="3097440" cy="230364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4824360" y="1773360"/>
            <a:ext cx="4572000" cy="2447640"/>
            <a:chOff x="4824360" y="1773360"/>
            <a:chExt cx="4572000" cy="244764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rcRect l="11071" t="0" r="12088" b="66584"/>
            <a:stretch/>
          </p:blipFill>
          <p:spPr>
            <a:xfrm>
              <a:off x="5904000" y="1773360"/>
              <a:ext cx="349236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824360" y="2708280"/>
              <a:ext cx="178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33ff"/>
                  </a:solidFill>
                  <a:latin typeface="Arial"/>
                </a:rPr>
                <a:t>Airy Disk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0920" y="393372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y disk produced by electron diffraction around a spherical object (nucle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24000" y="2637000"/>
            <a:ext cx="3792600" cy="797040"/>
            <a:chOff x="324000" y="2637000"/>
            <a:chExt cx="3792600" cy="797040"/>
          </a:xfrm>
        </p:grpSpPr>
        <p:sp>
          <p:nvSpPr>
            <p:cNvPr id="137" name=""/>
            <p:cNvSpPr/>
            <p:nvPr/>
          </p:nvSpPr>
          <p:spPr>
            <a:xfrm>
              <a:off x="324000" y="2852640"/>
              <a:ext cx="37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66ff"/>
                  </a:solidFill>
                  <a:latin typeface="Arial"/>
                </a:rPr>
                <a:t>Diameter of nucleu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627280" y="2637000"/>
              <a:ext cx="649440" cy="2872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650000" y="1989000"/>
            <a:ext cx="0" cy="4395960"/>
          </a:xfrm>
          <a:prstGeom prst="line">
            <a:avLst/>
          </a:prstGeom>
          <a:ln w="1908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53440" y="1989000"/>
            <a:ext cx="0" cy="4394160"/>
          </a:xfrm>
          <a:prstGeom prst="line">
            <a:avLst/>
          </a:prstGeom>
          <a:ln w="1908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12000" y="1989000"/>
            <a:ext cx="0" cy="4395960"/>
          </a:xfrm>
          <a:prstGeom prst="line">
            <a:avLst/>
          </a:prstGeom>
          <a:ln w="1908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211640" y="260280"/>
            <a:ext cx="4896360" cy="1657440"/>
            <a:chOff x="4211640" y="260280"/>
            <a:chExt cx="4896360" cy="1657440"/>
          </a:xfrm>
        </p:grpSpPr>
        <p:grpSp>
          <p:nvGrpSpPr>
            <p:cNvPr id="143" name=""/>
            <p:cNvGrpSpPr/>
            <p:nvPr/>
          </p:nvGrpSpPr>
          <p:grpSpPr>
            <a:xfrm>
              <a:off x="5335560" y="260280"/>
              <a:ext cx="1314000" cy="1316160"/>
              <a:chOff x="5335560" y="260280"/>
              <a:chExt cx="1314000" cy="1316160"/>
            </a:xfrm>
          </p:grpSpPr>
          <p:sp>
            <p:nvSpPr>
              <p:cNvPr id="144" name=""/>
              <p:cNvSpPr/>
              <p:nvPr/>
            </p:nvSpPr>
            <p:spPr>
              <a:xfrm>
                <a:off x="5335560" y="260280"/>
                <a:ext cx="1296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4000" spc="-1" strike="noStrike">
                    <a:solidFill>
                      <a:srgbClr val="3366ff"/>
                    </a:solidFill>
                    <a:latin typeface="Arial"/>
                    <a:ea typeface="Arial"/>
                  </a:rPr>
                  <a:t>λ</a:t>
                </a:r>
                <a:r>
                  <a:rPr b="0" lang="en-GB" sz="4000" spc="-1" strike="noStrike">
                    <a:solidFill>
                      <a:srgbClr val="3366ff"/>
                    </a:solidFill>
                    <a:latin typeface="Arial"/>
                    <a:ea typeface="Arial"/>
                  </a:rPr>
                  <a:t> = 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48440" y="87300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66ff"/>
                    </a:solidFill>
                    <a:latin typeface="Arial"/>
                  </a:rPr>
                  <a:t>p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46640" y="944280"/>
                <a:ext cx="50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flipH="1">
              <a:off x="4211640" y="981000"/>
              <a:ext cx="1440000" cy="9367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28840" y="333360"/>
              <a:ext cx="227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66ff"/>
                  </a:solidFill>
                  <a:latin typeface="Arial"/>
                </a:rPr>
                <a:t>(de Broglie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50920" y="69228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sing wave qualities of electrons i.e. diff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480" y="5805360"/>
            <a:ext cx="61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Rememb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is the angle from 0</a:t>
            </a:r>
            <a:r>
              <a:rPr b="0" lang="en-US" sz="2400" spc="-1" strike="noStrike" baseline="30000">
                <a:solidFill>
                  <a:srgbClr val="cc00cc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order to 1</a:t>
            </a:r>
            <a:r>
              <a:rPr b="0" lang="en-US" sz="2400" spc="-1" strike="noStrike" baseline="30000">
                <a:solidFill>
                  <a:srgbClr val="cc00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minim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89320" y="324000"/>
            <a:ext cx="81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therford scattering and electron diff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149076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52354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07440" y="529740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3040" y="308808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1778040"/>
            <a:ext cx="4464360" cy="3241800"/>
          </a:xfrm>
          <a:custGeom>
            <a:avLst/>
            <a:gdLst/>
            <a:ahLst/>
            <a:rect l="l" t="t" r="r" b="b"/>
            <a:pathLst>
              <a:path w="2812" h="2042">
                <a:moveTo>
                  <a:pt x="0" y="0"/>
                </a:moveTo>
                <a:cubicBezTo>
                  <a:pt x="83" y="351"/>
                  <a:pt x="167" y="703"/>
                  <a:pt x="363" y="998"/>
                </a:cubicBezTo>
                <a:cubicBezTo>
                  <a:pt x="559" y="1293"/>
                  <a:pt x="771" y="1595"/>
                  <a:pt x="1179" y="1769"/>
                </a:cubicBezTo>
                <a:cubicBezTo>
                  <a:pt x="1587" y="1943"/>
                  <a:pt x="2199" y="1992"/>
                  <a:pt x="2812" y="204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2685" t="34403" r="12088" b="34156"/>
          <a:stretch/>
        </p:blipFill>
        <p:spPr>
          <a:xfrm>
            <a:off x="5292720" y="1197000"/>
            <a:ext cx="3419640" cy="2303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68360" y="1851120"/>
            <a:ext cx="4392720" cy="3168720"/>
          </a:xfrm>
          <a:custGeom>
            <a:avLst/>
            <a:gdLst/>
            <a:ahLst/>
            <a:rect l="l" t="t" r="r" b="b"/>
            <a:pathLst>
              <a:path w="2767" h="1996">
                <a:moveTo>
                  <a:pt x="0" y="0"/>
                </a:moveTo>
                <a:cubicBezTo>
                  <a:pt x="60" y="242"/>
                  <a:pt x="121" y="484"/>
                  <a:pt x="227" y="726"/>
                </a:cubicBezTo>
                <a:cubicBezTo>
                  <a:pt x="333" y="968"/>
                  <a:pt x="544" y="1354"/>
                  <a:pt x="635" y="1452"/>
                </a:cubicBezTo>
                <a:cubicBezTo>
                  <a:pt x="726" y="1550"/>
                  <a:pt x="733" y="1331"/>
                  <a:pt x="771" y="1316"/>
                </a:cubicBezTo>
                <a:cubicBezTo>
                  <a:pt x="809" y="1301"/>
                  <a:pt x="817" y="1301"/>
                  <a:pt x="862" y="1361"/>
                </a:cubicBezTo>
                <a:cubicBezTo>
                  <a:pt x="907" y="1421"/>
                  <a:pt x="961" y="1610"/>
                  <a:pt x="1044" y="1678"/>
                </a:cubicBezTo>
                <a:cubicBezTo>
                  <a:pt x="1127" y="1746"/>
                  <a:pt x="1210" y="1731"/>
                  <a:pt x="1361" y="1769"/>
                </a:cubicBezTo>
                <a:cubicBezTo>
                  <a:pt x="1512" y="1807"/>
                  <a:pt x="1717" y="1867"/>
                  <a:pt x="1951" y="1905"/>
                </a:cubicBezTo>
                <a:cubicBezTo>
                  <a:pt x="2185" y="1943"/>
                  <a:pt x="2495" y="1988"/>
                  <a:pt x="2767" y="1996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564000" y="2924280"/>
            <a:ext cx="4536360" cy="1296360"/>
            <a:chOff x="3564000" y="2924280"/>
            <a:chExt cx="4536360" cy="1296360"/>
          </a:xfrm>
        </p:grpSpPr>
        <p:sp>
          <p:nvSpPr>
            <p:cNvPr id="160" name=""/>
            <p:cNvSpPr/>
            <p:nvPr/>
          </p:nvSpPr>
          <p:spPr>
            <a:xfrm>
              <a:off x="7407360" y="2924280"/>
              <a:ext cx="693000" cy="864360"/>
            </a:xfrm>
            <a:prstGeom prst="ellipse">
              <a:avLst/>
            </a:prstGeom>
            <a:noFill/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4000" y="3659040"/>
              <a:ext cx="3998160" cy="561600"/>
            </a:xfrm>
            <a:custGeom>
              <a:avLst/>
              <a:gdLst/>
              <a:ahLst/>
              <a:rect l="l" t="t" r="r" b="b"/>
              <a:pathLst>
                <a:path w="2359" h="295">
                  <a:moveTo>
                    <a:pt x="2359" y="23"/>
                  </a:moveTo>
                  <a:cubicBezTo>
                    <a:pt x="1848" y="159"/>
                    <a:pt x="1338" y="295"/>
                    <a:pt x="998" y="295"/>
                  </a:cubicBezTo>
                  <a:cubicBezTo>
                    <a:pt x="658" y="295"/>
                    <a:pt x="484" y="46"/>
                    <a:pt x="318" y="23"/>
                  </a:cubicBezTo>
                  <a:cubicBezTo>
                    <a:pt x="152" y="0"/>
                    <a:pt x="76" y="79"/>
                    <a:pt x="0" y="159"/>
                  </a:cubicBezTo>
                </a:path>
              </a:pathLst>
            </a:custGeom>
            <a:noFill/>
            <a:ln w="5724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555640" y="1341360"/>
            <a:ext cx="3816720" cy="1366920"/>
            <a:chOff x="2555640" y="1341360"/>
            <a:chExt cx="3816720" cy="1366920"/>
          </a:xfrm>
        </p:grpSpPr>
        <p:sp>
          <p:nvSpPr>
            <p:cNvPr id="163" name=""/>
            <p:cNvSpPr/>
            <p:nvPr/>
          </p:nvSpPr>
          <p:spPr>
            <a:xfrm>
              <a:off x="2556000" y="1341360"/>
              <a:ext cx="381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/r curve predicted by Rutherford scatterin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555640" y="2205000"/>
              <a:ext cx="431640" cy="50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580000" y="4076640"/>
            <a:ext cx="3564000" cy="947160"/>
            <a:chOff x="5580000" y="4076640"/>
            <a:chExt cx="3564000" cy="947160"/>
          </a:xfrm>
        </p:grpSpPr>
        <p:sp>
          <p:nvSpPr>
            <p:cNvPr id="166" name=""/>
            <p:cNvSpPr/>
            <p:nvPr/>
          </p:nvSpPr>
          <p:spPr>
            <a:xfrm>
              <a:off x="5940360" y="4076640"/>
              <a:ext cx="320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33ff"/>
                  </a:solidFill>
                  <a:latin typeface="Arial"/>
                </a:rPr>
                <a:t>Actual curve for electron scattering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580000" y="4581360"/>
              <a:ext cx="432000" cy="28764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928240" y="5013360"/>
            <a:ext cx="5664960" cy="1457280"/>
            <a:chOff x="2928240" y="5013360"/>
            <a:chExt cx="5664960" cy="1457280"/>
          </a:xfrm>
        </p:grpSpPr>
        <p:sp>
          <p:nvSpPr>
            <p:cNvPr id="169" name=""/>
            <p:cNvSpPr/>
            <p:nvPr/>
          </p:nvSpPr>
          <p:spPr>
            <a:xfrm>
              <a:off x="2928240" y="5950080"/>
              <a:ext cx="50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00"/>
                  </a:solidFill>
                  <a:latin typeface="Arial"/>
                </a:rPr>
                <a:t>Quantum feature of e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Arial"/>
                </a:rPr>
                <a:t>- </a:t>
              </a:r>
              <a:r>
                <a:rPr b="0" lang="en-US" sz="2800" spc="-1" strike="noStrike">
                  <a:solidFill>
                    <a:srgbClr val="00cc00"/>
                  </a:solidFill>
                  <a:latin typeface="Arial"/>
                </a:rPr>
                <a:t>makes it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85080" y="5013360"/>
              <a:ext cx="708120" cy="1152360"/>
            </a:xfrm>
            <a:custGeom>
              <a:avLst/>
              <a:gdLst/>
              <a:ahLst/>
              <a:rect l="l" t="t" r="r" b="b"/>
              <a:pathLst>
                <a:path w="446" h="726">
                  <a:moveTo>
                    <a:pt x="0" y="726"/>
                  </a:moveTo>
                  <a:cubicBezTo>
                    <a:pt x="185" y="627"/>
                    <a:pt x="370" y="529"/>
                    <a:pt x="408" y="408"/>
                  </a:cubicBezTo>
                  <a:cubicBezTo>
                    <a:pt x="446" y="287"/>
                    <a:pt x="336" y="143"/>
                    <a:pt x="226" y="0"/>
                  </a:cubicBezTo>
                </a:path>
              </a:pathLst>
            </a:custGeom>
            <a:noFill/>
            <a:ln w="57240">
              <a:solidFill>
                <a:srgbClr val="00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3600" y="441360"/>
            <a:ext cx="773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Ch 17 Probing Deep into Mat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440" y="1208160"/>
            <a:ext cx="56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7.2 Scattering and sc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18032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Particle  Z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03280" y="3427560"/>
            <a:ext cx="248436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d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de up of qua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.e. protons, neut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6" idx="2"/>
            <a:endCxn id="174" idx="0"/>
          </p:cNvCxnSpPr>
          <p:nvPr/>
        </p:nvCxnSpPr>
        <p:spPr>
          <a:xfrm rot="5400000">
            <a:off x="1773360" y="2609280"/>
            <a:ext cx="791280" cy="846720"/>
          </a:xfrm>
          <a:prstGeom prst="bentConnector3">
            <a:avLst>
              <a:gd name="adj1" fmla="val 4979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203640" y="3427560"/>
            <a:ext cx="262872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p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amental parti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.e. electrons, neutri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6" idx="2"/>
            <a:endCxn id="177" idx="0"/>
          </p:cNvCxnSpPr>
          <p:nvPr/>
        </p:nvCxnSpPr>
        <p:spPr>
          <a:xfrm flipH="1" rot="16200000">
            <a:off x="3159000" y="2069280"/>
            <a:ext cx="791280" cy="1926360"/>
          </a:xfrm>
          <a:prstGeom prst="bentConnector3">
            <a:avLst>
              <a:gd name="adj1" fmla="val 4979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041120" y="189000"/>
            <a:ext cx="69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tegorisation of sub-atomic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746360" y="4508280"/>
            <a:ext cx="4265640" cy="1945080"/>
            <a:chOff x="1746360" y="4508280"/>
            <a:chExt cx="4265640" cy="1945080"/>
          </a:xfrm>
        </p:grpSpPr>
        <p:sp>
          <p:nvSpPr>
            <p:cNvPr id="181" name=""/>
            <p:cNvSpPr/>
            <p:nvPr/>
          </p:nvSpPr>
          <p:spPr>
            <a:xfrm>
              <a:off x="3959280" y="5337000"/>
              <a:ext cx="2052720" cy="11163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Mes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Quark – antiqua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.e. </a:t>
              </a:r>
              <a:r>
                <a:rPr b="0" lang="en-GB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74" idx="2"/>
              <a:endCxn id="181" idx="0"/>
            </p:cNvCxnSpPr>
            <p:nvPr/>
          </p:nvCxnSpPr>
          <p:spPr>
            <a:xfrm flipH="1" rot="16200000">
              <a:off x="2952000" y="3302280"/>
              <a:ext cx="829080" cy="3240720"/>
            </a:xfrm>
            <a:prstGeom prst="bentConnector3">
              <a:avLst>
                <a:gd name="adj1" fmla="val 49782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3" name=""/>
          <p:cNvGrpSpPr/>
          <p:nvPr/>
        </p:nvGrpSpPr>
        <p:grpSpPr>
          <a:xfrm>
            <a:off x="1079640" y="4508640"/>
            <a:ext cx="2232000" cy="1944720"/>
            <a:chOff x="1079640" y="4508640"/>
            <a:chExt cx="2232000" cy="1944720"/>
          </a:xfrm>
        </p:grpSpPr>
        <p:sp>
          <p:nvSpPr>
            <p:cNvPr id="184" name=""/>
            <p:cNvSpPr/>
            <p:nvPr/>
          </p:nvSpPr>
          <p:spPr>
            <a:xfrm>
              <a:off x="1079640" y="5338800"/>
              <a:ext cx="2232000" cy="11145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ary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 quark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.e. proton, neutr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5" name=""/>
            <p:cNvCxnSpPr>
              <a:stCxn id="174" idx="2"/>
              <a:endCxn id="184" idx="0"/>
            </p:cNvCxnSpPr>
            <p:nvPr/>
          </p:nvCxnSpPr>
          <p:spPr>
            <a:xfrm flipH="1" rot="16200000">
              <a:off x="1555920" y="4698720"/>
              <a:ext cx="830880" cy="450000"/>
            </a:xfrm>
            <a:prstGeom prst="bentConnector3">
              <a:avLst>
                <a:gd name="adj1" fmla="val 49891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8720" y="1486080"/>
            <a:ext cx="3527280" cy="11509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rm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alf integer sp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ject to exclusion princi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79" idx="2"/>
            <a:endCxn id="176" idx="0"/>
          </p:cNvCxnSpPr>
          <p:nvPr/>
        </p:nvCxnSpPr>
        <p:spPr>
          <a:xfrm rot="5400000">
            <a:off x="3201120" y="158760"/>
            <a:ext cx="718560" cy="1937520"/>
          </a:xfrm>
          <a:prstGeom prst="bentConnector3">
            <a:avLst>
              <a:gd name="adj1" fmla="val 4977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4716360" y="1486080"/>
            <a:ext cx="4211640" cy="1366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le integer sp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subject to exclusion princi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mit a force i.e. photons, gluon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79" idx="2"/>
            <a:endCxn id="187" idx="0"/>
          </p:cNvCxnSpPr>
          <p:nvPr/>
        </p:nvCxnSpPr>
        <p:spPr>
          <a:xfrm flipH="1" rot="16200000">
            <a:off x="5317200" y="-20160"/>
            <a:ext cx="718560" cy="2294640"/>
          </a:xfrm>
          <a:prstGeom prst="bentConnector3">
            <a:avLst>
              <a:gd name="adj1" fmla="val 4977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70160" y="1052640"/>
            <a:ext cx="4094280" cy="5805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33280" y="324000"/>
            <a:ext cx="81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vours of Quar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am only requires up and d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3790800"/>
            <a:ext cx="3960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1125360"/>
            <a:ext cx="3384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4520" y="1017720"/>
            <a:ext cx="11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⅔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1017720"/>
            <a:ext cx="11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⅔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1800" y="1015920"/>
            <a:ext cx="1180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⅔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1440" y="3860640"/>
            <a:ext cx="1316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-(⅓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9800" y="3862440"/>
            <a:ext cx="1316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-(⅓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21080" y="3860640"/>
            <a:ext cx="1316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-(⅓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8720" y="1628640"/>
            <a:ext cx="2448720" cy="2376720"/>
            <a:chOff x="108720" y="1628640"/>
            <a:chExt cx="2448720" cy="2376720"/>
          </a:xfrm>
        </p:grpSpPr>
        <p:sp>
          <p:nvSpPr>
            <p:cNvPr id="200" name=""/>
            <p:cNvSpPr/>
            <p:nvPr/>
          </p:nvSpPr>
          <p:spPr>
            <a:xfrm>
              <a:off x="108720" y="263700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ff"/>
                  </a:solidFill>
                  <a:latin typeface="Arial"/>
                </a:rPr>
                <a:t>Char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49440" y="3139920"/>
              <a:ext cx="1008000" cy="865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549440" y="1628640"/>
              <a:ext cx="934920" cy="1224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39280" y="40464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78760" y="1197000"/>
            <a:ext cx="54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 never seen on their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77320" y="1844640"/>
            <a:ext cx="63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ve anti-versions of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44360" y="2358720"/>
            <a:ext cx="5688360" cy="1427760"/>
            <a:chOff x="2844360" y="2358720"/>
            <a:chExt cx="5688360" cy="1427760"/>
          </a:xfrm>
        </p:grpSpPr>
        <p:sp>
          <p:nvSpPr>
            <p:cNvPr id="207" name=""/>
            <p:cNvSpPr/>
            <p:nvPr/>
          </p:nvSpPr>
          <p:spPr>
            <a:xfrm>
              <a:off x="4140360" y="2717640"/>
              <a:ext cx="439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Everything, other than mass, is opposit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844360" y="2358720"/>
              <a:ext cx="1295640" cy="6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76200" y="378000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Hadron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7800" y="458136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Quark combinations must hav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68800" y="516240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et integer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69160" y="5789520"/>
            <a:ext cx="33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Zero colour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8:41:22Z</dcterms:created>
  <dc:creator>Cirencester College</dc:creator>
  <dc:description/>
  <dc:language>en-US</dc:language>
  <cp:lastModifiedBy>PALMER</cp:lastModifiedBy>
  <dcterms:modified xsi:type="dcterms:W3CDTF">2011-07-13T07:58:11Z</dcterms:modified>
  <cp:revision>10</cp:revision>
  <dc:subject/>
  <dc:title>Slide 1</dc:title>
</cp:coreProperties>
</file>